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DE6-5BFD-471E-AF57-4CFE91D2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8C8-5C3A-453A-BB01-E4A4405B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185-AD37-467B-A1DA-719CAFE9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0D2-0CCE-47DF-9BE4-C5C34794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244-DEF3-483F-B502-6ECA4B5C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132-AF63-442E-9EF1-6E49B82F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BE2-8678-45FD-9E80-DACBCCEB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53F-112C-4434-9D32-1CA95DCD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E69-4946-4A4A-AEE7-428A8280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0EE-691B-4847-9A16-6B9B469C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6B7-5D05-4340-9D8D-72BDE626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79B-91E3-410A-87F7-6AB974F0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1E49-63BA-414C-AF9C-BC3B7550D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8 Aké príjemné a krás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žia láska nech nás spá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rdciach Kristus kraľ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veky kiež z blaha raj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ý z nás sa radu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ké príjemné a krás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cirkvi svorne naží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ké vznešené a vzác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bies pokoj rozsievať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by sme sa v každej dob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žím Duchom dali vi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od pravdy sveta zlob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dali sa nikdy zvi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žia láska nech nás spá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rdciach Kristus kraľ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veky kiež z blaha raj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ý z nás sa rad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Bremä jedni druhých nes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Otca máme jedného;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a nás Kristus trpel vedz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olá k sebe každ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a to stále pamätaj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a ním verne kráčaj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hnevy, sváry zanechaj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vzájom sa znášajme.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žia láska nech nás spá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rdciach Kristus kraľ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veky kiež z blaha raj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ý z nás sa rad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riaci kde svorne žij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ehná dielo nebies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kde láskou srdcia bi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si rád svoj volí st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ké príjemné a krás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cirkvi svorne naží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ké vznešené a vzác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bies pokoj rozsiev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!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6:31:32Z</dcterms:modified>
  <cp:revision>22</cp:revision>
  <dc:subject/>
  <dc:title>Je veľký náš Pán, on slávy je Kráľ Nech do všetkých strán  spev vrúcnych znie chvál.</dc:title>
</cp:coreProperties>
</file>